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DD5-16B0-4DA8-BFD8-32F12543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1F5-E3E9-455E-9AB5-AAA3D24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420-33D5-483E-A624-ECDF1325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1D3-B56A-4C60-9C89-14CAC08D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06A-BA19-46D7-9948-78EC1F4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3A3-1661-4858-AFCA-D3AECE5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573-BD78-4FF7-A5DF-C8E3070A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3F-6048-4BE4-9060-43D134DE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ACF-B5AF-4447-A899-C44B633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45E-4B73-41C5-AE6F-55FE268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0CD-2989-4EB6-A448-DF7B5C9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D03-F235-4EB5-B8E8-275BFA3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3328-BA5E-4F04-82B0-8B8E5576890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asterclas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e marketing van biologische productie en retai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Verwoorden &amp; Verwaarden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98989"/>
                </a:solidFill>
                <a:latin typeface="Calibri"/>
              </a:rPr>
              <a:t>Balancerend Marketing bel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iologisch produceren i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erken aan meerwaar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-stream tot down-stream in de k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atieproces, doordenken, doorvoelen doorwi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e is gericht op doorgronden van proc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mancipatie van de cons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alancerend Marketingbeleid vraag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flectie op bestaande sit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sie op wat je bewe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en wat je te ontwikkelen h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antwoordelijk willen zijn voor persoonlijke ontwikk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oriteiten stellen op basis van vi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chtbaar zijn in communica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oorden en ve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als resulta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De consumenten premi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in de prij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2819520" y="1447920"/>
            <a:ext cx="0" cy="3733560"/>
          </a:xfrm>
          <a:prstGeom prst="line">
            <a:avLst/>
          </a:prstGeom>
          <a:ln w="5076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343400" y="3275280"/>
            <a:ext cx="3733920" cy="2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2209680"/>
            <a:ext cx="19227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wat je te doen staat, met je ideaal of v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Openhar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Prior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A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800600" y="3657600"/>
            <a:ext cx="223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je omgeving,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Aand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90920" y="2590920"/>
            <a:ext cx="2133360" cy="1447560"/>
          </a:xfrm>
          <a:prstGeom prst="ellipse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71640" y="3048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alancerend Marketing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rot="5400000">
            <a:off x="1676520" y="2054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0504d"/>
                </a:solidFill>
                <a:latin typeface="Calibri"/>
              </a:rPr>
              <a:t>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87692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ed181e"/>
                </a:solidFill>
                <a:latin typeface="Calibri"/>
              </a:rPr>
              <a:t>Ver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3657600" y="885240"/>
            <a:ext cx="2524320" cy="2090160"/>
          </a:xfrm>
          <a:prstGeom prst="line">
            <a:avLst/>
          </a:prstGeom>
          <a:ln w="5076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477120" y="762120"/>
            <a:ext cx="1981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876e7"/>
                </a:solidFill>
                <a:latin typeface="Calibri"/>
              </a:rPr>
              <a:t>Bewust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zorgt voor 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1:10:56Z</dcterms:created>
  <dc:creator>Ruijte01</dc:creator>
  <dc:description/>
  <dc:language>en-US</dc:language>
  <cp:lastModifiedBy>schuri01</cp:lastModifiedBy>
  <dcterms:modified xsi:type="dcterms:W3CDTF">2011-07-11T11:13:31Z</dcterms:modified>
  <cp:revision>5</cp:revision>
  <dc:subject/>
  <dc:title>Masterclass Verwoorden &amp; Verwaarden</dc:title>
</cp:coreProperties>
</file>